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C91-AB0C-4403-AB47-83CEBA60E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6AB-0A96-4A09-8C42-141D9BF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A44-F60D-4F0E-9CAF-89F11AE3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504-C2D8-4A8A-AD1E-28608A32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6FD-57E0-4118-B3F6-FD27DABA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5C7-806C-46B8-8D1E-D88535D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0CD-EEF5-4EB0-93B1-40832934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0A1-A57D-42A8-A1AE-382AE41C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F03-0F03-4092-A527-1A5B4AF2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580-AD73-45D5-8DB1-1372A29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020-5B70-411E-9D23-27D6D13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0B8-4367-4640-8E12-B328E49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F82B4-D253-446B-85A9-F1CDC629321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0320" y="315900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 Bold"/>
                <a:ea typeface="Tahoma Bold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1920" y="4156200"/>
            <a:ext cx="64008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 Bold"/>
                <a:ea typeface="Tahoma Bold"/>
              </a:rPr>
              <a:t>Subtítu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72960" y="267444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53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53bd"/>
                </a:solidFill>
                <a:latin typeface="Tahoma Bold"/>
                <a:ea typeface="Tahoma Bold"/>
              </a:rPr>
              <a:t>Puntos a 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ítulo 1"/>
          <p:cNvSpPr/>
          <p:nvPr/>
        </p:nvSpPr>
        <p:spPr>
          <a:xfrm>
            <a:off x="372960" y="412920"/>
            <a:ext cx="6232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 Bold"/>
                <a:ea typeface="Tahoma Bold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2960" y="133956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653b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53bd"/>
                </a:solidFill>
                <a:latin typeface="Tahoma Bold"/>
                <a:ea typeface="Tahoma Bold"/>
              </a:rPr>
              <a:t>Puntos a 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372960" y="412920"/>
            <a:ext cx="6232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53bd"/>
                </a:solidFill>
                <a:latin typeface="Tahoma Bold"/>
                <a:ea typeface="Tahoma Bold"/>
              </a:rPr>
              <a:t>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20:27:50Z</dcterms:created>
  <dc:creator>EsSalud EsSalud</dc:creator>
  <dc:description/>
  <dc:language>en-US</dc:language>
  <cp:lastModifiedBy>EsSalud EsSalud</cp:lastModifiedBy>
  <dcterms:modified xsi:type="dcterms:W3CDTF">2015-07-20T20:36:07Z</dcterms:modified>
  <cp:revision>1</cp:revision>
  <dc:subject/>
  <dc:title>Título</dc:title>
</cp:coreProperties>
</file>