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255-E329-41F0-A38B-7EA2EFEC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637-906F-4690-8159-C86D3BB7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CE0-3F82-4DE1-8A27-036D5191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0A4-3B0F-4C28-8763-BB7E1C14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0C8-9247-488A-9D14-E2254987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4EA-954D-4EBD-AD57-042F5784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A14-BDA2-4563-8021-C380EF9C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305-58B5-4A39-8ACA-FDEE9CF4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984-D909-45BF-920F-D97EB6E6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E07-2B44-4E29-942C-51906C0D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5F5-2F84-42B3-A5AC-BC567495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8D1-4C7E-4EC7-A2B5-6A46AE44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E12B2-1EC6-4076-889D-2F7E2FDFCE1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0320" y="315900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ahoma Bold"/>
                <a:ea typeface="Tahoma Bold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1920" y="4156200"/>
            <a:ext cx="64008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 Bold"/>
                <a:ea typeface="Tahoma Bold"/>
              </a:rPr>
              <a:t>Subtítu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72960" y="1765080"/>
            <a:ext cx="822960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6bc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d6bc6"/>
                </a:solidFill>
                <a:latin typeface="Tahoma Bold"/>
                <a:ea typeface="Tahoma Bold"/>
              </a:rPr>
              <a:t>Puntos a 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ítulo 1"/>
          <p:cNvSpPr/>
          <p:nvPr/>
        </p:nvSpPr>
        <p:spPr>
          <a:xfrm>
            <a:off x="372960" y="984240"/>
            <a:ext cx="6232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d6bc6"/>
                </a:solidFill>
                <a:latin typeface="Tahoma Bold"/>
                <a:ea typeface="Tahoma Bold"/>
              </a:rPr>
              <a:t>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2960" y="133956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6bc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d6bc6"/>
                </a:solidFill>
                <a:latin typeface="Tahoma Bold"/>
                <a:ea typeface="Tahoma Bold"/>
              </a:rPr>
              <a:t>Puntos a 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ítulo 1"/>
          <p:cNvSpPr/>
          <p:nvPr/>
        </p:nvSpPr>
        <p:spPr>
          <a:xfrm>
            <a:off x="372960" y="412920"/>
            <a:ext cx="6232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d6bc6"/>
                </a:solidFill>
                <a:latin typeface="Tahoma Bold"/>
                <a:ea typeface="Tahoma Bold"/>
              </a:rPr>
              <a:t>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20:27:50Z</dcterms:created>
  <dc:creator>EsSalud EsSalud</dc:creator>
  <dc:description/>
  <dc:language>en-US</dc:language>
  <cp:lastModifiedBy>EsSalud EsSalud</cp:lastModifiedBy>
  <dcterms:modified xsi:type="dcterms:W3CDTF">2016-01-25T22:47:09Z</dcterms:modified>
  <cp:revision>5</cp:revision>
  <dc:subject/>
  <dc:title>Título</dc:title>
</cp:coreProperties>
</file>